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527-9234-40CD-A2B0-A3FDCFC8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867-FFA7-45D6-8CDD-605F3811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13D-7C79-48D9-95C9-60EF25C2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633-294A-4696-BE8C-A314FD37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CD5-0C4C-4513-9264-BE1D9CCF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CEB-2AF7-488F-8D21-BC408376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218-BE10-45AA-BB6F-00992F72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DA0-5091-4ED8-A228-0535CD6D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747-491E-4888-A446-5B8329CD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E3B-FB42-4E1B-8D9A-699202A4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A71-25AF-4560-8D13-DEAAA1B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3A6-926F-47F7-A1C2-CB2B89DC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FF992-84BC-4A41-9582-FBCFA5E940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10A0F-4104-43BA-8302-DC5CE5911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nowman Cvr.jpg"/>
          <p:cNvPicPr/>
          <p:nvPr/>
        </p:nvPicPr>
        <p:blipFill>
          <a:blip r:embed="rId1"/>
          <a:stretch/>
        </p:blipFill>
        <p:spPr>
          <a:xfrm>
            <a:off x="0" y="17460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10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11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2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3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4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5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6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7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8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19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age002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page020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page021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014560" y="2712960"/>
            <a:ext cx="2717640" cy="10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547e"/>
                    </a:gs>
                    <a:gs pos="100000">
                      <a:srgbClr val="548dd4"/>
                    </a:gs>
                  </a:gsLst>
                  <a:lin ang="13500000"/>
                </a:gradFill>
                <a:effectLst>
                  <a:outerShdw dist="25560" dir="16200000" blurRad="0" rotWithShape="0">
                    <a:srgbClr val="548dd4">
                      <a:alpha val="50000"/>
                    </a:srgbClr>
                  </a:outerShdw>
                </a:effectLst>
                <a:latin typeface="Lucida Bright"/>
              </a:rPr>
              <a:t>The End</a:t>
            </a:r>
            <a:endParaRPr b="1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547e"/>
                  </a:gs>
                  <a:gs pos="100000">
                    <a:srgbClr val="548dd4"/>
                  </a:gs>
                </a:gsLst>
                <a:lin ang="13500000"/>
              </a:gradFill>
              <a:effectLst>
                <a:outerShdw dist="25560" dir="16200000" blurRad="0" rotWithShape="0">
                  <a:srgbClr val="548dd4">
                    <a:alpha val="50000"/>
                  </a:srgbClr>
                </a:outerShdw>
              </a:effectLst>
              <a:latin typeface="Lucida Bright"/>
              <a:ea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3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4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5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6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7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8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9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2:38:09Z</dcterms:created>
  <dc:creator>Beverly Moshier</dc:creator>
  <dc:description/>
  <dc:language>en-US</dc:language>
  <cp:lastModifiedBy>Beverly Moshier</cp:lastModifiedBy>
  <dcterms:modified xsi:type="dcterms:W3CDTF">2012-02-06T12:46:29Z</dcterms:modified>
  <cp:revision>1</cp:revision>
  <dc:subject/>
  <dc:title>Slide 1</dc:title>
</cp:coreProperties>
</file>